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2108160"/>
            <a:ext cx="6108840" cy="14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6579720"/>
            <a:ext cx="610884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67920" y="535896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967920" y="6579720"/>
            <a:ext cx="298080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0304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68360" y="535896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0304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968360" y="6579720"/>
            <a:ext cx="1966680" cy="111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28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5112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2264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9336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313704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>
              <a:spcBef>
                <a:spcPts val="901"/>
              </a:spcBef>
              <a:buClr>
                <a:srgbClr val="2f1a14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>
              <a:spcBef>
                <a:spcPts val="901"/>
              </a:spcBef>
              <a:buClr>
                <a:srgbClr val="2f1a14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85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9136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4812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53840" indent="-3067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2244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1430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6002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12076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269720" y="1168560"/>
            <a:ext cx="1046484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28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5112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2264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9336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53000" y="2819160"/>
            <a:ext cx="438156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44172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114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3580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0552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85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9136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4812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53840" indent="-3067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17080" y="1485720"/>
            <a:ext cx="10617480" cy="158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Symbols of America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2552760" y="2476440"/>
            <a:ext cx="7835760" cy="58928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741240" y="501480"/>
            <a:ext cx="11531520" cy="8737560"/>
            <a:chOff x="741240" y="501480"/>
            <a:chExt cx="11531520" cy="873756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rcRect l="4937" t="0" r="4942" b="0"/>
            <a:stretch/>
          </p:blipFill>
          <p:spPr>
            <a:xfrm>
              <a:off x="906480" y="671400"/>
              <a:ext cx="11191680" cy="84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741240" y="501480"/>
              <a:ext cx="11531520" cy="873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71680" y="382680"/>
            <a:ext cx="11849040" cy="8991360"/>
            <a:chOff x="571680" y="382680"/>
            <a:chExt cx="11849040" cy="8991360"/>
          </a:xfrm>
        </p:grpSpPr>
        <p:pic>
          <p:nvPicPr>
            <p:cNvPr id="457" name="" descr=""/>
            <p:cNvPicPr/>
            <p:nvPr/>
          </p:nvPicPr>
          <p:blipFill>
            <a:blip r:embed="rId2"/>
            <a:srcRect l="688" t="0" r="599" b="152"/>
            <a:stretch/>
          </p:blipFill>
          <p:spPr>
            <a:xfrm>
              <a:off x="736920" y="560160"/>
              <a:ext cx="11518920" cy="86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571680" y="382680"/>
              <a:ext cx="11849040" cy="899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20560" y="341280"/>
            <a:ext cx="11988720" cy="9080640"/>
            <a:chOff x="520560" y="341280"/>
            <a:chExt cx="11988720" cy="908064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rcRect l="2763" t="0" r="2625" b="0"/>
            <a:stretch/>
          </p:blipFill>
          <p:spPr>
            <a:xfrm>
              <a:off x="685800" y="797040"/>
              <a:ext cx="11647440" cy="81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>
              <a:off x="520560" y="341280"/>
              <a:ext cx="11988720" cy="9080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546120" y="360360"/>
            <a:ext cx="11798280" cy="8953560"/>
            <a:chOff x="546120" y="360360"/>
            <a:chExt cx="11798280" cy="8953560"/>
          </a:xfrm>
        </p:grpSpPr>
        <p:pic>
          <p:nvPicPr>
            <p:cNvPr id="463" name="" descr=""/>
            <p:cNvPicPr/>
            <p:nvPr/>
          </p:nvPicPr>
          <p:blipFill>
            <a:blip r:embed="rId2"/>
            <a:srcRect l="5944" t="0" r="5927" b="147"/>
            <a:stretch/>
          </p:blipFill>
          <p:spPr>
            <a:xfrm>
              <a:off x="711360" y="538200"/>
              <a:ext cx="11467800" cy="86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546120" y="360360"/>
              <a:ext cx="11798280" cy="895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7023240" y="2870280"/>
            <a:ext cx="4508280" cy="5854680"/>
            <a:chOff x="7023240" y="2870280"/>
            <a:chExt cx="4508280" cy="5854680"/>
          </a:xfrm>
        </p:grpSpPr>
        <p:pic>
          <p:nvPicPr>
            <p:cNvPr id="466" name="" descr=""/>
            <p:cNvPicPr/>
            <p:nvPr/>
          </p:nvPicPr>
          <p:blipFill>
            <a:blip r:embed="rId2"/>
            <a:srcRect l="7178" t="0" r="7419" b="0"/>
            <a:stretch/>
          </p:blipFill>
          <p:spPr>
            <a:xfrm>
              <a:off x="7188120" y="4170600"/>
              <a:ext cx="4177800" cy="32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7023240" y="2870280"/>
              <a:ext cx="4508280" cy="585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he White House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The Executive Branch of the Government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Home of President and his family.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Place to announce important information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 </a:t>
            </a: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Make final decision on laws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Office and residential living</a:t>
            </a: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 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7023240" y="2870280"/>
            <a:ext cx="4419360" cy="5727600"/>
            <a:chOff x="7023240" y="2870280"/>
            <a:chExt cx="4419360" cy="5727600"/>
          </a:xfrm>
        </p:grpSpPr>
        <p:pic>
          <p:nvPicPr>
            <p:cNvPr id="471" name="" descr=""/>
            <p:cNvPicPr/>
            <p:nvPr/>
          </p:nvPicPr>
          <p:blipFill>
            <a:blip r:embed="rId2"/>
            <a:stretch/>
          </p:blipFill>
          <p:spPr>
            <a:xfrm>
              <a:off x="7197480" y="4254480"/>
              <a:ext cx="4063680" cy="29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7023240" y="2870280"/>
              <a:ext cx="4419360" cy="57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he Supreme Cour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946240"/>
            <a:ext cx="49528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Judges listen to difficult court 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Only court established by the US Constitution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All other courts follow rules of Supreme Court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7023240" y="2870280"/>
            <a:ext cx="4419360" cy="5727600"/>
            <a:chOff x="7023240" y="2870280"/>
            <a:chExt cx="4419360" cy="5727600"/>
          </a:xfrm>
        </p:grpSpPr>
        <p:pic>
          <p:nvPicPr>
            <p:cNvPr id="476" name="" descr=""/>
            <p:cNvPicPr/>
            <p:nvPr/>
          </p:nvPicPr>
          <p:blipFill>
            <a:blip r:embed="rId2"/>
            <a:srcRect l="9666" t="0" r="9837" b="0"/>
            <a:stretch/>
          </p:blipFill>
          <p:spPr>
            <a:xfrm>
              <a:off x="7188120" y="3827520"/>
              <a:ext cx="408888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7023240" y="2870280"/>
              <a:ext cx="4419360" cy="57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he Capitol Building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The senate and house of representatives work in this building.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Two senates from each state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depending on the population of each state depends on how many representatives are in the senate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They create laws to get passed by the president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a14"/>
                </a:solidFill>
                <a:latin typeface="Papyrus"/>
              </a:rPr>
              <a:t>These new laws are called bills</a:t>
            </a:r>
            <a:endParaRPr b="0" lang="en-US" sz="2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7520040" y="638280"/>
            <a:ext cx="5016600" cy="3848040"/>
            <a:chOff x="7520040" y="638280"/>
            <a:chExt cx="5016600" cy="3848040"/>
          </a:xfrm>
        </p:grpSpPr>
        <p:pic>
          <p:nvPicPr>
            <p:cNvPr id="481" name="" descr=""/>
            <p:cNvPicPr/>
            <p:nvPr/>
          </p:nvPicPr>
          <p:blipFill>
            <a:blip r:embed="rId2"/>
            <a:srcRect l="5392" t="0" r="5452" b="155"/>
            <a:stretch/>
          </p:blipFill>
          <p:spPr>
            <a:xfrm>
              <a:off x="7685280" y="808200"/>
              <a:ext cx="4682880" cy="35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"/>
            <a:stretch/>
          </p:blipFill>
          <p:spPr>
            <a:xfrm>
              <a:off x="7520040" y="638280"/>
              <a:ext cx="5016600" cy="384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1079280"/>
            <a:ext cx="61088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What have we learned?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5358960"/>
            <a:ext cx="10249200" cy="339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[ Insert what students say]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